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246B-D8DC-49EF-89A5-423CF37D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404-C9A7-44A6-9575-2657041A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2A2-BCA5-4A4C-8B2C-58E52536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08A-9191-4326-8C77-8AF9D87E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CEE9-769E-4E51-8658-4282344F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895D-ECB3-441E-AC05-2EF862B1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D0A2-14E3-403A-9E21-120E6169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FA41-4BEE-4F7B-BF99-0A092E0D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3640-8CC7-4682-BE08-6331F192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C12D-505E-4911-A1CE-B9F431E9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2027-55E9-4685-96F7-EA1B4517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62F-83E9-4020-92C8-6BEEB4E9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4DE2-8997-4081-B5DE-459806C1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3F7D-6B9E-478E-B45E-6DD65821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FA3D-CD44-4F9F-8DBA-86A51118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3B5E-5282-4361-94B2-678A7000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4113-E14C-4049-B94D-C02A7AE4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902C-E104-4FED-BE40-CBACF833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705A-5FA6-4AE9-A6BA-D3F458F1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7E66-A7C6-4B49-AE26-2473F13F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43D-5A60-4F78-8802-2E623E57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FF7-3D4E-4793-B2FE-1A4BAD5D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F587-1908-443C-B475-0C6A69CB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2F77-06C8-433F-8151-A94CDF77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481A-45E0-4108-AC22-E3E4DB2FE1F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6456-C434-4B5F-8D35-64518264E17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lib.uconn.edu/help/askHomer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ib.uconn.edu/using/tutorials/" TargetMode="External"/><Relationship Id="rId2" Type="http://schemas.openxmlformats.org/officeDocument/2006/relationships/hyperlink" Target="http://www.lib.uconn.edu/using/finding/guides/elecref.htm" TargetMode="External"/><Relationship Id="rId3" Type="http://schemas.openxmlformats.org/officeDocument/2006/relationships/hyperlink" Target="http://homerweb.lib.uconn.edu/" TargetMode="External"/><Relationship Id="rId4" Type="http://schemas.openxmlformats.org/officeDocument/2006/relationships/hyperlink" Target="http://www.lib.uconn.edu/online/ejournals" TargetMode="Externa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alenet.galegroup.com/servlet/History/hits?docNum=BT2306200579&amp;tab=1&amp;locID=s0003&amp;origSearch=true&amp;hdb=MW&amp;t=RK&amp;s=1&amp;r=d&amp;items=0&amp;secondary=true&amp;o=&amp;sortOrder=&amp;n=10&amp;l=dR&amp;sgPhrase=false&amp;c=1&amp;tabMap=35&amp;bucket=gal&amp;SU=modern+european+history" TargetMode="External"/><Relationship Id="rId2" Type="http://schemas.openxmlformats.org/officeDocument/2006/relationships/hyperlink" Target="http://galenet.galegroup.com/servlet/History/hits?docNum=A131865660&amp;tab=2&amp;locID=s0003&amp;origSearch=false&amp;hdb=MW&amp;t=RK&amp;s=1&amp;r=d&amp;items=0&amp;secondary=true&amp;o=&amp;sortOrder=RE&amp;n=10&amp;l=dJ&amp;sgPhrase=false&amp;c=2&amp;tabMap=35&amp;bucket=iac&amp;SU=modern+european+history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ec.europa.eu/index_en.htm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hslmc2008.wikispaces.com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conn.edu/" TargetMode="External"/><Relationship Id="rId2" Type="http://schemas.openxmlformats.org/officeDocument/2006/relationships/hyperlink" Target="http://www.lib.uconn.edu/" TargetMode="External"/><Relationship Id="rId3" Type="http://schemas.openxmlformats.org/officeDocument/2006/relationships/hyperlink" Target="http://classguides.lib.uconn.edu/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ibrary Orient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.C.E – Modern European History  - 2009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723960" y="266760"/>
            <a:ext cx="78476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ISTORY SUBJECT GUID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10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niversity Library provides a subject specialist or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Specialty Librarian in History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1840" y="4528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. European History Research Gui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1840" y="1447920"/>
            <a:ext cx="8759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 to Specialized Resourc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HOMER, Book catalo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Journ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Articles and Datab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se the Resources Prepared for you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TABS to limit or sel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Articles and Databases helps  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nd databases that have articles, streaming media, and more in the following subjects..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Subjects or Keywo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for SPECIFIC if you have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results are too limited broaden 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NLINE or In-Person HELP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 are stumped about something, 10 a.m. to 5 p.m., there is help in an online resource called “askHomer Live” which provides you the ability to ask reference questions and get answers in “real time”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 to 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lib.uconn.edu/help/askHom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CLICK on the Link to your UCONN Specialty Reference Librarian (highlighted on another pag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COME TO YOUR VERY OWN HIGH SCHOOL LIBRARIAN: Mrs. Fitzgeral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f you want tutorials for Library or UCONN Resources in general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line Library Introduction/Orientation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lib.uconn.edu/using/tutorials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cess to Electronic Information Resources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lib.uconn.edu/using/finding/guides/elecref.htm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mer, the online Catalog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homerweb.lib.uconn.e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earch Database Locator: www.lib.uconn.edu/online/datab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Journals – Locate Electronic Journals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www.lib.uconn.edu/online/ejourn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9760" y="3578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story KEY WEBSITE Resour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5780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ther resources found by browsing UCONN’s links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37864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MPLES: Modern World His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Versailles Treaty and the Rise of Nazism.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History in Dispute, Vol. 16: Twentieth-Century European Social and Political Movements. Paul du Quenoy, ed. St. James Press, 2004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Themes in Modern European History Since 1945.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Journal of European Studies Mar 1, 2004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eded to access Information and Technology Services through UCON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ID: eight digit network identifi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ssword:   (you create after entering your activation code for the first ti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248640" y="47880"/>
            <a:ext cx="5313600" cy="6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other Search Sour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9200" y="990720"/>
            <a:ext cx="89125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vidual Articles:  </a:t>
            </a:r>
            <a:br>
              <a:rPr sz="32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Consider some ‘hits’ might be articles that are just book reviews… but might be useful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d some are articles with FULL TEX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ook through lists: for the quality and Full Tex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tle:Discovering inner freedom: Philip Boobbyer, a lecturer in modern European history at the University of Kent, puts cleaning one's slate in a wider philosophical context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ub: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For A Chang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tail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hilip Boobbyer. 12.1 (Feb-March 1999): p.10-11. (1667 words) From 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General OneF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 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ll-tex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atures of Note to help you alo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FT MARGIN has links to related subjec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ulti-tasking or saving for later (features you can have it read to you through an MP3 Download if you are going to be on a bus or riding in a ca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nt articles or Email them to store them electronical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ookmark things: example: Bookmark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py the Bookmark URL and paste it into another document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http://find.galegroup.com/gps/infomark.do?contentSet=IAC-Documents&amp;docType=IAC&amp;type=retrieve&amp;tabID=T007&amp;prodId=IPS&amp;docId=A206170769&amp;userGroupName=s1461&amp;version=1.0&amp;source=gale&amp;infoPage=infoMarkP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pecial Online features to help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ample: Dictionary defini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467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42840" y="519120"/>
            <a:ext cx="72583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452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arch People mentioned in article: 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.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exander Solzhenitsy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514520"/>
            <a:ext cx="85345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80720" y="333720"/>
            <a:ext cx="847692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ome Primary Source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uch as Newspapers available both through ICONN and UCON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895320"/>
            <a:ext cx="86774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62080" y="186120"/>
            <a:ext cx="83142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uropean History and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lexander Solzhenitsy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826920"/>
            <a:ext cx="8610480" cy="57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BRARY RESOURCE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ooks found through Online Catalog called HOMER and WORLDCA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gazines and Periodicals both in print or online or in libraries or through inter-library lo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ic resources  including electronic books, journals, newspapers and 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deral Docu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fo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ps &amp; Aerial Photograph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deos, CDs, DVDs, Music Scores/Record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23960" y="800280"/>
            <a:ext cx="838116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earches may yield only Abstracts or limited result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5520" y="1406520"/>
            <a:ext cx="875988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re both Abstract &amp; Full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839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arch Government Docu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 Documents – exist in most count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ine Resources – try organiz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vernment websites in EUROPE have  information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ec.europa.eu/index_en.htm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uropean Government Websi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759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RAP UP  and T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 &amp; 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 Library Website for li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 a Librarian if nee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 your teacher for other termin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rrific opportunity … great resources… use th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to Star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y UCONN Library Home P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www.lib.uconn.edu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are simple or advance 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ide on Books, Journals or Medi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ore op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ngs to remember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borrow from UCONN, do not let anything become overdue, it will be a $95. charge for anything over 28 days and your UCONN account will be flagg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ine resources are available also through RHS Subscriptions and State of Connecticut Subscriptions which can be found by going to the RHS Library WIKISPACES PAGE a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rhslmc2008.wikispaces.com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763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CONN WEBSIT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CONN HOME PAGE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uconn.e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brary Page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lib.uconn.e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 Guides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classguides.lib.uconn.e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: Finding History Gu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89154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05320" y="804960"/>
            <a:ext cx="6695280" cy="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istory Resources in Databas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9:39:36Z</dcterms:created>
  <dc:creator>fitzgeraldj</dc:creator>
  <dc:description/>
  <dc:language>en-US</dc:language>
  <cp:lastModifiedBy>fitzgeraldj</cp:lastModifiedBy>
  <dcterms:modified xsi:type="dcterms:W3CDTF">2009-09-21T20:13:59Z</dcterms:modified>
  <cp:revision>16</cp:revision>
  <dc:subject/>
  <dc:title>Library Orientation</dc:title>
</cp:coreProperties>
</file>